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1B25-93E0-4B41-A172-9B6A4CAA176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05AF-F342-4D28-B946-C7EF337786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5251-2968-4D2E-AA77-A4F5AB7EDEA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F9CE-75F2-4DF2-AD72-753B67A974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806-7123-4BB0-BA4F-7EA59215B29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AE8E-B738-4FE3-96D6-E83BF53C817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F713-B71D-4FE9-A250-25DF8EF5940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A5B2-BA83-4ACB-A08E-452227FBFA5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DBF5-2378-4853-A4E1-F313FCE0EC0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F558-43FF-42ED-BCF8-ABE6AC11FAE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A485-F2D1-4058-AB0D-6AD4362135E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B680-5B59-4B4F-9127-0A3FC1A9FD7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7BD-74FA-4C47-B37F-BD00CFA66E1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D07F-3D37-4C4C-9122-3C0549EB1AB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C174-CAE4-4F25-A882-E8689A27610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19F6-211A-48D0-9B1D-B645F10D68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878C-4502-410D-8477-CAF2DAE45E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7A8D-30E6-4A17-81C3-D4E51058723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5761-59A3-4336-9DF5-4811A77B0BA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8EF1-BB56-43B6-B242-4446F03492C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8F71-7785-4C10-BBEB-CC5D514FA69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C999-86DE-4239-9396-29BC27E2B5A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869B-4ED6-417F-AD6C-0CB60366F6C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3175-5709-4719-BBAF-33F5F32FEB5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05E2-0553-413B-9F51-3CE8EF511DD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86B1-F116-4024-82AE-A2348ABB2D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A3A5-5E02-4670-8348-DE1120C791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D733-FD6E-4F00-AB10-6EFA7B56B7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72D9-E589-43C7-A12C-F2382509F8D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2CD0-E2E1-43C1-8E41-21E5F03FF58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28B1-0D9A-4DA1-A49C-ED313FA2DF9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6CCB-33C1-470D-ACD0-F64E122E5DD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F043-EA74-4C7D-8B2A-B5E12523829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3D80-55AC-4082-AF9F-F07D7ADD72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7DA5-3A20-486D-AE7C-C0C19AAC72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CF97-9E11-4A85-B718-39CFBA47C9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9487-44E2-46CD-8DE2-B92868523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D0F8-9CB9-4CC5-92B7-97A37B9D3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E121E-770B-4EC4-93B4-41D8D2913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9758C-EB47-436A-940F-10EE02ABA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48D7-CB1D-46F5-82CC-0E7221DE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CE7BE-1136-4060-9DA0-D592A9CC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756B1-7A13-4EEA-904F-599B4BAC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92EEE-992B-46B1-9120-3B9E4BEDD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3D5D9-993C-4FBF-9707-7B0EE8B6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F9BD-7B2F-4D87-AA54-8D6C21E04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8B2A-13E2-4E4C-B79D-10FB6153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2993-DA92-4E53-8D66-75E2F08F7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63E2-EEA1-4AD1-8B98-2D8AD0D049E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Continuing Comprehension Teaching and Learn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3000" y="37857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ddon/Mallee October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HAT IS INDEPENDENT READING?</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ing with 95% or higher accuracy rate and understanding what is being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1" lang="en-AU" sz="2800" spc="-1" strike="noStrike" u="sng">
                <a:solidFill>
                  <a:srgbClr val="009999"/>
                </a:solidFill>
                <a:uFillTx/>
                <a:latin typeface="Arial"/>
              </a:rPr>
              <a:t>SMART</a:t>
            </a:r>
            <a:r>
              <a:rPr b="0" lang="en-AU" sz="2800" spc="-1" strike="noStrike">
                <a:solidFill>
                  <a:srgbClr val="009999"/>
                </a:solidFill>
                <a:latin typeface="Arial"/>
              </a:rPr>
              <a:t> </a:t>
            </a:r>
            <a:r>
              <a:rPr b="0" lang="en-AU" sz="2800" spc="-1" strike="noStrike">
                <a:solidFill>
                  <a:srgbClr val="000000"/>
                </a:solidFill>
                <a:latin typeface="Arial"/>
              </a:rPr>
              <a:t>readers know how to select just right boo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 your schoo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How often are students reading independently in all domai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re teachers conferring with students at this time to learn about students’ strengths and ne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Year 7 Classroom - view showing library area with magazines and newspapers"/>
          <p:cNvPicPr/>
          <p:nvPr/>
        </p:nvPicPr>
        <p:blipFill>
          <a:blip r:embed="rId1"/>
          <a:stretch/>
        </p:blipFill>
        <p:spPr>
          <a:xfrm>
            <a:off x="0" y="0"/>
            <a:ext cx="9612360" cy="67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Conferring</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to fin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find out – what assessment is sui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record for students and for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teaching is then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6600"/>
                </a:solidFill>
                <a:latin typeface="Arial"/>
              </a:rPr>
              <a:t>APPROPRIATE  ASSESSMENT (dat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ff"/>
                </a:solidFill>
                <a:latin typeface="Arial"/>
              </a:rPr>
              <a:t>	</a:t>
            </a:r>
            <a:r>
              <a:rPr b="0" lang="en-AU" sz="2400" spc="-1" strike="noStrike">
                <a:solidFill>
                  <a:srgbClr val="0066ff"/>
                </a:solidFill>
                <a:latin typeface="Arial"/>
              </a:rPr>
              <a:t>How is each component of the Reading Curriculum being assessed (to inform teac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level of difficulty is the text – is this increas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is appropriate for assessment of eac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ding process – analysis of Running Reco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rehension – discussion/checklists (note that usual questioning only gives information about ability to find information directly in text or through inferr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uency – student reading aloud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discussion about meaning of words/phr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coding – Analysis of Running Records/student reading aloud; strategies used for spel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nge of reading – student log of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Plannin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reading block or in English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ross all do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fic routines to assist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Teaching</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 of texts (level, range, genres, type of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m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rehension (each strategy plus combination of strategies/metacog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l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cabul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co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6600"/>
                </a:solidFill>
                <a:latin typeface="Arial"/>
              </a:rPr>
              <a:t> </a:t>
            </a:r>
            <a:r>
              <a:rPr b="0" lang="en-AU" sz="4000" spc="-1" strike="noStrike">
                <a:solidFill>
                  <a:srgbClr val="ff6600"/>
                </a:solidFill>
                <a:latin typeface="Arial"/>
              </a:rPr>
              <a:t>RECIPROCAL TEACHING – one routine using multiple strategies</a:t>
            </a:r>
            <a:endParaRPr b="0" lang="en-US" sz="4000" spc="-1" strike="noStrike">
              <a:solidFill>
                <a:srgbClr val="000000"/>
              </a:solidFill>
              <a:latin typeface="Arial"/>
            </a:endParaRPr>
          </a:p>
        </p:txBody>
      </p:sp>
      <p:sp>
        <p:nvSpPr>
          <p:cNvPr id="8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volves us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Predi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rifying meaning (</a:t>
            </a:r>
            <a:r>
              <a:rPr b="0" lang="en-AU" sz="2800" spc="-1" strike="noStrike">
                <a:solidFill>
                  <a:srgbClr val="0066ff"/>
                </a:solidFill>
                <a:latin typeface="Arial"/>
              </a:rPr>
              <a:t>questioning</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Question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Summari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search: 20 sessions will assist struggling readers to improve reading by at least 1.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Question-Answer-Relationship </a:t>
            </a:r>
            <a:r>
              <a:rPr b="1" lang="en-AU" sz="3200" spc="-1" strike="noStrike">
                <a:solidFill>
                  <a:srgbClr val="000000"/>
                </a:solidFill>
                <a:latin typeface="Arial"/>
              </a:rPr>
              <a:t>(QAR)</a:t>
            </a:r>
            <a:br>
              <a:rPr sz="4000"/>
            </a:b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sists students to figure out how to go about answering questions being asked about a given tex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the relationship that exists between the question, the text, and the background knowledge of the reader.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are taught to use four question/answer relationships (QARs) to find the information needed to answer a question –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Right There (in the text - literal – detail)</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ink and Search (in the text - some searching and cross text connections required)</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uthor and me</a:t>
            </a:r>
            <a:r>
              <a:rPr b="0" lang="en-AU" sz="2000" spc="-1" strike="noStrike">
                <a:solidFill>
                  <a:srgbClr val="000000"/>
                </a:solidFill>
                <a:latin typeface="Arial"/>
              </a:rPr>
              <a:t> (</a:t>
            </a:r>
            <a:r>
              <a:rPr b="0" i="1" lang="en-AU" sz="2000" spc="-1" strike="noStrike">
                <a:solidFill>
                  <a:srgbClr val="000000"/>
                </a:solidFill>
                <a:latin typeface="Arial"/>
              </a:rPr>
              <a:t>comes from student’s background knowledge, but students need to have read and understood the text – inferential)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 My Own (relates to text, but the student could answer even if they had never read the text - ideas and information come from student’s background knowl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36360" y="0"/>
            <a:ext cx="5229000" cy="6858000"/>
          </a:xfrm>
          <a:prstGeom prst="rect">
            <a:avLst/>
          </a:prstGeom>
          <a:ln w="0">
            <a:noFill/>
          </a:ln>
        </p:spPr>
      </p:pic>
      <p:pic>
        <p:nvPicPr>
          <p:cNvPr id="84" name="Picture 3" descr=""/>
          <p:cNvPicPr/>
          <p:nvPr/>
        </p:nvPicPr>
        <p:blipFill>
          <a:blip r:embed="rId2"/>
          <a:stretch/>
        </p:blipFill>
        <p:spPr>
          <a:xfrm>
            <a:off x="5762520" y="404640"/>
            <a:ext cx="3191040" cy="6048720"/>
          </a:xfrm>
          <a:prstGeom prst="rect">
            <a:avLst/>
          </a:prstGeom>
          <a:ln w="0">
            <a:noFill/>
          </a:ln>
        </p:spPr>
      </p:pic>
      <p:sp>
        <p:nvSpPr>
          <p:cNvPr id="85" name="AutoShape 4"/>
          <p:cNvSpPr/>
          <p:nvPr/>
        </p:nvSpPr>
        <p:spPr>
          <a:xfrm>
            <a:off x="5796000" y="404640"/>
            <a:ext cx="3168720" cy="6120000"/>
          </a:xfrm>
          <a:prstGeom prst="wedgeRectCallout">
            <a:avLst>
              <a:gd name="adj1" fmla="val -66430"/>
              <a:gd name="adj2" fmla="val -18092"/>
            </a:avLst>
          </a:prstGeom>
          <a:noFill/>
          <a:ln w="1584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0" y="27000"/>
            <a:ext cx="5219640" cy="68072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VOCABULAR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de re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stablishment of an environment that promotes word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icit instruction of word learning strategies: selection of words, context clues, meaning of word parts, multiple resources, discussion with others, realisation that words have multiple meanings – which is most suitab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AU" sz="4000" spc="-1" strike="noStrike">
                <a:solidFill>
                  <a:srgbClr val="000000"/>
                </a:solidFill>
                <a:latin typeface="Arial"/>
              </a:rPr>
              <a:t>Agenda</a:t>
            </a:r>
            <a:br>
              <a:rPr sz="4000"/>
            </a:b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vision</a:t>
            </a:r>
            <a:br>
              <a:rPr sz="2000"/>
            </a:br>
            <a:r>
              <a:rPr b="0" lang="en-AU" sz="2000" spc="-1" strike="noStrike">
                <a:solidFill>
                  <a:srgbClr val="000000"/>
                </a:solidFill>
                <a:latin typeface="Arial"/>
              </a:rPr>
              <a:t>comprehension strategies</a:t>
            </a:r>
            <a:br>
              <a:rPr sz="2000"/>
            </a:br>
            <a:r>
              <a:rPr b="0" lang="en-AU" sz="2000" spc="-1" strike="noStrike">
                <a:solidFill>
                  <a:srgbClr val="000000"/>
                </a:solidFill>
                <a:latin typeface="Arial"/>
              </a:rPr>
              <a:t>reading curriculum</a:t>
            </a:r>
            <a:br>
              <a:rPr sz="2000"/>
            </a:br>
            <a:r>
              <a:rPr b="0" lang="en-AU" sz="2000" spc="-1" strike="noStrike">
                <a:solidFill>
                  <a:srgbClr val="000000"/>
                </a:solidFill>
                <a:latin typeface="Arial"/>
              </a:rPr>
              <a:t>gradual release of responsibility</a:t>
            </a:r>
            <a:br>
              <a:rPr sz="2000"/>
            </a:br>
            <a:r>
              <a:rPr b="0" lang="en-AU" sz="2000" spc="-1" strike="noStrike">
                <a:solidFill>
                  <a:srgbClr val="000000"/>
                </a:solidFill>
                <a:latin typeface="Arial"/>
              </a:rPr>
              <a:t>independent reading (see checklist)</a:t>
            </a:r>
            <a:br>
              <a:rPr sz="2000"/>
            </a:br>
            <a:r>
              <a:rPr b="0" lang="en-AU" sz="2000" spc="-1" strike="noStrike">
                <a:solidFill>
                  <a:srgbClr val="000000"/>
                </a:solidFill>
                <a:latin typeface="Arial"/>
              </a:rPr>
              <a:t>classroom/area library (see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onferring with students/appropriate assess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ibility of teaching years 5-7 (What is definitely known about comprehension instr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ning/differentiated instruction/all do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rehension routines – RT, QAR, SQ3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cabul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luen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co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to nex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distillation"/>
          <p:cNvPicPr/>
          <p:nvPr/>
        </p:nvPicPr>
        <p:blipFill>
          <a:blip r:embed="rId1"/>
          <a:stretch/>
        </p:blipFill>
        <p:spPr>
          <a:xfrm>
            <a:off x="1996920" y="0"/>
            <a:ext cx="5148360" cy="6858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FLUENCY</a:t>
            </a:r>
            <a:r>
              <a:rPr b="0" lang="en-AU" sz="4000" spc="-1" strike="noStrike">
                <a:solidFill>
                  <a:srgbClr val="000000"/>
                </a:solidFill>
                <a:latin typeface="Arial"/>
              </a:rPr>
              <a:t> </a:t>
            </a:r>
            <a:r>
              <a:rPr b="0" lang="en-AU" sz="3200" spc="-1" strike="noStrike">
                <a:solidFill>
                  <a:srgbClr val="000000"/>
                </a:solidFill>
                <a:latin typeface="Arial"/>
              </a:rPr>
              <a:t>(rate, phrasing, expression)</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eated readings by student, firstly listening, then reading with, then independ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uthentic oral reading experiences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adio reading/webcasts, Shared Reading, choral reading, Readers Theatre, poetry club, rehearsed Read Aloud to an audience, paired reading, read along with CDs/DVDs/ip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ngel with a Mouth –Organ </a:t>
            </a:r>
            <a:br>
              <a:rPr sz="2400"/>
            </a:br>
            <a:r>
              <a:rPr b="0" lang="en-AU" sz="2400" spc="-1" strike="noStrike">
                <a:solidFill>
                  <a:srgbClr val="000000"/>
                </a:solidFill>
                <a:latin typeface="Arial"/>
              </a:rPr>
              <a:t>by Christobel Mattingley</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i="1" lang="en-AU" sz="1800" spc="-1" strike="noStrike">
                <a:solidFill>
                  <a:srgbClr val="000000"/>
                </a:solidFill>
                <a:latin typeface="Arial"/>
              </a:rPr>
              <a:t>We had put the baubles, the tinsel, the lights on the Christmas tre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The angel was always last of al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	</a:t>
            </a:r>
            <a:r>
              <a:rPr b="0" i="1" lang="en-AU" sz="1800" spc="-1" strike="noStrike">
                <a:solidFill>
                  <a:srgbClr val="000000"/>
                </a:solidFill>
                <a:latin typeface="Arial"/>
              </a:rPr>
              <a:t>Peter and Ingrid started to argue and grab at its bo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t’s my tur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You did it last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m taller, so I can reach bett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t’s not fa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 said, “Hand pi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Peter put down his right hand. Ingrid put hers on top, I covered Ingri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Peter covered mine and said, “Sorry, M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ngrid covered Peter’s and said, “You will tell us the angel story again, won’t yo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nside the box the little glass angel with the golden wing shone like a star against the cotton wo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 thought of the baby doll wrapped ready for Ingrid to find on Christmas morning, and the baby growing in my tummy, which Peter hoped would be a broth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1800" spc="-1" strike="noStrike">
                <a:solidFill>
                  <a:srgbClr val="000000"/>
                </a:solidFill>
                <a:latin typeface="Arial"/>
              </a:rPr>
              <a:t>It started the year I wanted a baby doll. I’d hoped for a real baby, like our neighbour had. My mother wouldn’t promise. So I asked for a doll inst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But long before St Nicholas could bring one, out of the clouds the planes came, with noise like thunder and flashes like light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They flew across our village. It became a garden of flame. The houses and the haystacks were like poppies, bursting out of their buds into glowing gold and orange. The church spire and the chimneys were like spikes of scarlet salvi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When all the petals of flame had fallen at last, the village was like a skeleton. Buildings were black, animals were dead, people had disappeared. The earth was bare and burnt. But in the hearts of the people who were left the fire flowers had dropped their seeds – of fear and of hate, of courage and of l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1800" spc="-1" strike="noStrike">
                <a:solidFill>
                  <a:srgbClr val="000000"/>
                </a:solidFill>
                <a:latin typeface="Arial"/>
              </a:rPr>
              <a:t>After the planes the soldiers came. They took away fathers, brothers, sons. But they didn’t take our father. He laughed, “They don’t want a one-armed bear in their circus!” And he hugged us with the arm he had left, almost as hard as he used to hug when he had both arms, before the planes c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DECODING</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What is the most appropriate way to use knowledge of phonics for the follow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enfranchi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Which words should students automatically be able to 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nk to spe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Eurostile"/>
              </a:rPr>
              <a:t>Effective teachers of comprehension </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mprehension strategi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with a variety of text typ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and learning using a gradual release of responsibility model</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at comprehension teaching does not stand alone (fluency, decoding, vocabulary &amp; world knowledge influence comprehension)</a:t>
            </a:r>
            <a:endParaRPr b="0" lang="en-US" sz="2800" spc="-1" strike="noStrike">
              <a:solidFill>
                <a:srgbClr val="000000"/>
              </a:solidFill>
              <a:latin typeface="Arial"/>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urostile"/>
              </a:rPr>
              <a:t>Comprehension Strateg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Prior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lo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Structure a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sing and Visual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i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LL YEAR  LEVELS and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The Reading Curricul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Using a range of “texts” (a variety of fiction and factual genres), the reading curriculum includes the teaching and learning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ading process – sampling the text, predicting the content and continually confirming or self-correcting and using syntactic, semantic, graphophonic cues to construct mean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rehension strategies – predicting/prior knowledge, questioning, thinking-aloud, using text structures and features, visualising, summari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cabulary (affected by world knowled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luency – expression, phrasing, r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coding (not just “sounding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e to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to select appropriate (“just right”) texts for independent reading and about the selection of easy or challenging texts for a range of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Responsibilities of teaching years 5-7</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a:t>
            </a:r>
            <a:r>
              <a:rPr b="0" lang="en-AU" sz="2800" spc="-1" strike="noStrike">
                <a:solidFill>
                  <a:srgbClr val="0066ff"/>
                </a:solidFill>
                <a:latin typeface="Arial"/>
              </a:rPr>
              <a:t>students</a:t>
            </a:r>
            <a:endParaRPr b="0" lang="en-US" sz="2800" spc="-1" strike="noStrike">
              <a:solidFill>
                <a:srgbClr val="000000"/>
              </a:solidFill>
              <a:latin typeface="Arial"/>
            </a:endParaRPr>
          </a:p>
          <a:p>
            <a:pPr marL="343080" indent="-343080">
              <a:lnSpc>
                <a:spcPct val="9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cc00"/>
                </a:solidFill>
                <a:latin typeface="Arial"/>
              </a:rPr>
              <a:t>Reading is enjoyable – establishing a reading hab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or 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or the future years – for li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nformation to pass on – h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o what is known about what we should be do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ticle – SQ3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SQ3R </a:t>
            </a:r>
            <a:r>
              <a:rPr b="0" lang="en-AU" sz="4000" spc="-1" strike="noStrike">
                <a:solidFill>
                  <a:srgbClr val="000000"/>
                </a:solidFill>
                <a:latin typeface="Arial"/>
              </a:rPr>
              <a:t>(Survey, Question, Read, Recall/Recite, Review)</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specially useful for learning how to deal with formal assessments with questions student has to provide answers f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strategies use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urvey” - predic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Ques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 – actively able to use comprehension strategies such as predicting, using text structures, visualising, summar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dual release of responsibility </a:t>
            </a:r>
            <a:endParaRPr b="0" lang="en-US" sz="4000" spc="-1" strike="noStrike">
              <a:solidFill>
                <a:srgbClr val="000000"/>
              </a:solidFill>
              <a:latin typeface="Arial"/>
            </a:endParaRPr>
          </a:p>
        </p:txBody>
      </p:sp>
      <p:sp>
        <p:nvSpPr>
          <p:cNvPr id="63"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Read aloud</a:t>
            </a:r>
            <a:r>
              <a:rPr b="0" lang="en-AU" sz="2800" spc="-1" strike="noStrike">
                <a:solidFill>
                  <a:srgbClr val="000000"/>
                </a:solidFill>
                <a:latin typeface="Arial"/>
              </a:rPr>
              <a:t> –TO students, with explicit demonstration of purposes and strategies</a:t>
            </a:r>
            <a:r>
              <a:rPr b="0" lang="en-AU" sz="2800" spc="-1" strike="noStrike">
                <a:solidFill>
                  <a:srgbClr val="ff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hared reading</a:t>
            </a:r>
            <a:r>
              <a:rPr b="0" lang="en-AU" sz="2800" spc="-1" strike="noStrike">
                <a:solidFill>
                  <a:srgbClr val="000000"/>
                </a:solidFill>
                <a:latin typeface="Arial"/>
              </a:rPr>
              <a:t> – WITH students, collaboratively working on strategi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Guided reading</a:t>
            </a:r>
            <a:r>
              <a:rPr b="0" lang="en-AU" sz="2800" spc="-1" strike="noStrike">
                <a:solidFill>
                  <a:srgbClr val="000000"/>
                </a:solidFill>
                <a:latin typeface="Arial"/>
              </a:rPr>
              <a:t> – WITH &amp; BY students (supported with scaffolds – needs and strengths assessed during the independent reading time, reinforcing effective strategi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Independent reading</a:t>
            </a:r>
            <a:r>
              <a:rPr b="0" lang="en-AU" sz="2800" spc="-1" strike="noStrike">
                <a:solidFill>
                  <a:srgbClr val="000000"/>
                </a:solidFill>
                <a:latin typeface="Arial"/>
              </a:rPr>
              <a:t> – BY students (teacher confers with students – this is the real data that informs teach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SEARCH</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eral studies have produced consistent findings showing positive correlations between the volume of independent reading and reading comprehension and vocabulary develop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lington, Richard.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4:06:55Z</dcterms:created>
  <dc:creator>Diane Snnowball</dc:creator>
  <dc:description/>
  <dc:language>en-US</dc:language>
  <cp:lastModifiedBy>Diane</cp:lastModifiedBy>
  <dcterms:modified xsi:type="dcterms:W3CDTF">2009-10-13T21:41:41Z</dcterms:modified>
  <cp:revision>24</cp:revision>
  <dc:subject/>
  <dc:title>Continuing Comprehension Teaching and Learning</dc:title>
</cp:coreProperties>
</file>